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BB5-E9FF-4484-9166-2141547F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46D-CF62-4AD7-8978-C3FA69B9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6B8-B7D0-41B6-BF95-33A794BC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CFE-4589-4F7F-B203-1284DBC9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063-093E-4F66-A06B-81AC503F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02E-67B7-41D1-BA57-0D94AA79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E68-E615-4C27-B0F6-CD786884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685-9BB8-4389-A242-648A0B9A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780-030F-44A7-B574-72A94D8A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379-DA0A-48B5-96F0-DB65E4B7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1CD-E5CF-4485-82A3-0ED8AFC5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64D-3FC7-4AEC-AF7C-97448BBF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7532-0BC3-474B-B8BE-7ADE9B831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ou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. He  was a tall man.  He was born on February 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 good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21680" y="5692680"/>
            <a:ext cx="1822320" cy="1165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692680"/>
            <a:ext cx="1822320" cy="116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21680" y="228600"/>
            <a:ext cx="1822320" cy="116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223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467480" y="2895480"/>
            <a:ext cx="1428840" cy="1770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 had three sons 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d past infancy shown Willi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, and Tad .Only Robert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adulth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2920" y="5410080"/>
            <a:ext cx="1822320" cy="1165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467480" y="380880"/>
            <a:ext cx="147636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103644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9:39:41Z</dcterms:created>
  <dc:creator>smuser</dc:creator>
  <dc:description/>
  <dc:language>en-US</dc:language>
  <cp:lastModifiedBy>smuser</cp:lastModifiedBy>
  <dcterms:modified xsi:type="dcterms:W3CDTF">2010-02-03T19:14:29Z</dcterms:modified>
  <cp:revision>6</cp:revision>
  <dc:subject/>
  <dc:title>Comparing Presidents</dc:title>
</cp:coreProperties>
</file>